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E8C3-1654-453C-97D3-70785295B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6E1A-828B-4179-BC1B-F14EFC1C4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9062-7575-49EF-BB65-254C64307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DB01-FDB0-4750-BF37-494B57E4E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33408-CD68-43B0-B9BC-CFA779CCF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01357-9632-45B4-9CF1-9113BBC7E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4C3CE-698F-41AE-B502-EA9A3314F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CD4E6-3FEB-4DD0-97DE-9D9A732AF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CA240-76F1-47AB-B1FF-7A4BBA4E2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C5F5B-5940-4B72-969A-BA63A7AE6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B119B-9DAE-43D7-9DB4-74F33518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44F9-3A93-4EB3-9D51-B812D215F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20E07-216A-42BE-84F5-E3051CFA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10A79-01A3-4332-AF8C-3EFD3ED3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EDEFC-62B1-4F74-B846-98953A30E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C4736-4FB1-49E3-96D5-CEE084B70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6A89E-4AEE-4387-B1EA-2F0A0E095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E260-806D-43F3-89BD-C9A99ABE8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B282-6E49-4266-BED4-5DF375CB2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8D0B-0968-4901-90F8-0C91616B8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316B-C837-4843-ABE8-F72313F6A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B359-351B-4C2D-ABE8-AE74E9E4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5D32-4BE7-4174-B810-DBE655FC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D472-F82B-4F4D-B650-2320FD60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48682-83F0-4532-A1A2-F9853771CBB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E7B56-83A4-4A3A-81B3-B53A65ACABE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khs20@sussex.ac.uk" TargetMode="External"/><Relationship Id="rId2" Type="http://schemas.openxmlformats.org/officeDocument/2006/relationships/hyperlink" Target="mailto:hilaryb@sussex.ac.uk" TargetMode="External"/><Relationship Id="rId3" Type="http://schemas.openxmlformats.org/officeDocument/2006/relationships/hyperlink" Target="http://www.ecvision.org/" TargetMode="External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huji.ac.il/~nir/Nips01-Tutorial/" TargetMode="External"/><Relationship Id="rId2" Type="http://schemas.openxmlformats.org/officeDocument/2006/relationships/hyperlink" Target="http://www.cs.berkeley.edu/~murphyk/Bayes/bayes.html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gnitive Computer Vi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4920" y="2743200"/>
            <a:ext cx="7086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Kingsley S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khs20@sussex.ac.u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Hilary Buxt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ilaryb@sussex.ac.u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Prepared under ECVision Specific Action 8-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http://www.ecvision.or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775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artial data and known structu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371600" y="2666880"/>
          <a:ext cx="2209680" cy="3168720"/>
        </p:xfrm>
        <a:graphic>
          <a:graphicData uri="http://schemas.openxmlformats.org/drawingml/2006/table">
            <a:tbl>
              <a:tblPr/>
              <a:tblGrid>
                <a:gridCol w="736560"/>
                <a:gridCol w="736560"/>
                <a:gridCol w="736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=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=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=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"/>
          <p:cNvSpPr/>
          <p:nvPr/>
        </p:nvSpPr>
        <p:spPr>
          <a:xfrm>
            <a:off x="3878280" y="4125960"/>
            <a:ext cx="990720" cy="533520"/>
          </a:xfrm>
          <a:prstGeom prst="rightArrow">
            <a:avLst>
              <a:gd name="adj1" fmla="val 50000"/>
              <a:gd name="adj2" fmla="val 46424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4741920" y="2666520"/>
            <a:ext cx="3868560" cy="2628720"/>
            <a:chOff x="4741920" y="2666520"/>
            <a:chExt cx="3868560" cy="2628720"/>
          </a:xfrm>
        </p:grpSpPr>
        <p:sp>
          <p:nvSpPr>
            <p:cNvPr id="174" name=""/>
            <p:cNvSpPr/>
            <p:nvPr/>
          </p:nvSpPr>
          <p:spPr>
            <a:xfrm flipV="1">
              <a:off x="5257800" y="2666520"/>
              <a:ext cx="0" cy="22100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257800" y="4876920"/>
              <a:ext cx="33526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996240" y="483552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6200000">
              <a:off x="4463640" y="3588480"/>
              <a:ext cx="101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L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|D)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57800" y="3403440"/>
              <a:ext cx="3048120" cy="1473480"/>
            </a:xfrm>
            <a:custGeom>
              <a:avLst/>
              <a:gdLst/>
              <a:ahLst/>
              <a:rect l="l" t="t" r="r" b="b"/>
              <a:pathLst>
                <a:path w="1920" h="928">
                  <a:moveTo>
                    <a:pt x="0" y="928"/>
                  </a:moveTo>
                  <a:cubicBezTo>
                    <a:pt x="8" y="924"/>
                    <a:pt x="16" y="920"/>
                    <a:pt x="48" y="880"/>
                  </a:cubicBezTo>
                  <a:cubicBezTo>
                    <a:pt x="80" y="840"/>
                    <a:pt x="144" y="744"/>
                    <a:pt x="192" y="688"/>
                  </a:cubicBezTo>
                  <a:cubicBezTo>
                    <a:pt x="240" y="632"/>
                    <a:pt x="264" y="552"/>
                    <a:pt x="336" y="544"/>
                  </a:cubicBezTo>
                  <a:cubicBezTo>
                    <a:pt x="408" y="536"/>
                    <a:pt x="568" y="672"/>
                    <a:pt x="624" y="640"/>
                  </a:cubicBezTo>
                  <a:cubicBezTo>
                    <a:pt x="680" y="608"/>
                    <a:pt x="640" y="416"/>
                    <a:pt x="672" y="352"/>
                  </a:cubicBezTo>
                  <a:cubicBezTo>
                    <a:pt x="704" y="288"/>
                    <a:pt x="760" y="248"/>
                    <a:pt x="816" y="256"/>
                  </a:cubicBezTo>
                  <a:cubicBezTo>
                    <a:pt x="872" y="264"/>
                    <a:pt x="936" y="360"/>
                    <a:pt x="1008" y="400"/>
                  </a:cubicBezTo>
                  <a:cubicBezTo>
                    <a:pt x="1080" y="440"/>
                    <a:pt x="1176" y="560"/>
                    <a:pt x="1248" y="496"/>
                  </a:cubicBezTo>
                  <a:cubicBezTo>
                    <a:pt x="1320" y="432"/>
                    <a:pt x="1368" y="32"/>
                    <a:pt x="1440" y="16"/>
                  </a:cubicBezTo>
                  <a:cubicBezTo>
                    <a:pt x="1512" y="0"/>
                    <a:pt x="1600" y="248"/>
                    <a:pt x="1680" y="400"/>
                  </a:cubicBezTo>
                  <a:cubicBezTo>
                    <a:pt x="1760" y="552"/>
                    <a:pt x="1888" y="840"/>
                    <a:pt x="1920" y="92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3819240" y="5429160"/>
            <a:ext cx="485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66"/>
                </a:solidFill>
                <a:latin typeface="Times New Roman"/>
              </a:rPr>
              <a:t>Incomplete data means that the likelihood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66"/>
                </a:solidFill>
                <a:latin typeface="Times New Roman"/>
              </a:rPr>
              <a:t>function can have multiple maxima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775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artial data and known structu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79400" y="257508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Expectation Maximisation (Dempster, ‘77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A general purpose method for learning from incomplete dat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If we had complete data, we could estimate paramet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But with missing data, true counts needed are unknown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But we can estimate the true counts using probabilistic inference based on our current mod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We can then use “completed” counts as if they were real to re-estimate the paramet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Perform this as an iterative process until the solution converg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775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artial data and known structu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066680" y="2438280"/>
          <a:ext cx="1981440" cy="2190960"/>
        </p:xfrm>
        <a:graphic>
          <a:graphicData uri="http://schemas.openxmlformats.org/drawingml/2006/table">
            <a:tbl>
              <a:tblPr/>
              <a:tblGrid>
                <a:gridCol w="660600"/>
                <a:gridCol w="660240"/>
                <a:gridCol w="660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=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=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=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066680" y="5334120"/>
                <a:ext cx="320040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85" name=""/>
          <p:cNvGraphicFramePr/>
          <p:nvPr/>
        </p:nvGraphicFramePr>
        <p:xfrm>
          <a:off x="4419720" y="2514600"/>
          <a:ext cx="4419360" cy="2505240"/>
        </p:xfrm>
        <a:graphic>
          <a:graphicData uri="http://schemas.openxmlformats.org/drawingml/2006/table">
            <a:tbl>
              <a:tblPr/>
              <a:tblGrid>
                <a:gridCol w="533160"/>
                <a:gridCol w="609840"/>
                <a:gridCol w="1218960"/>
                <a:gridCol w="205740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=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=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# o=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# o=F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 + 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1 - 0.2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3 + 0.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1 - 0.3) + ( 1 - 0.2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>
            <a:off x="4199040" y="558648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The values on the left are determined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using techniques we saw in a previous lecture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775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artial data and known structu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79400" y="257508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rst compute all </a:t>
            </a:r>
            <a:r>
              <a:rPr b="0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hat you can (ignoring all data that is missing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oose random values for the remaining </a:t>
            </a:r>
            <a:r>
              <a:rPr b="0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pply EM process until L(</a:t>
            </a:r>
            <a:r>
              <a:rPr b="0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|D) converg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M guarantees that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L(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30000">
                <a:solidFill>
                  <a:srgbClr val="003366"/>
                </a:solidFill>
                <a:latin typeface="Arial"/>
              </a:rPr>
              <a:t>k+1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|D) 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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 L(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30000">
                <a:solidFill>
                  <a:srgbClr val="003366"/>
                </a:solidFill>
                <a:latin typeface="Arial"/>
              </a:rPr>
              <a:t>k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|D)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ere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s the iteration numb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L(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30000">
                <a:solidFill>
                  <a:srgbClr val="003366"/>
                </a:solidFill>
                <a:latin typeface="Arial"/>
              </a:rPr>
              <a:t>k+1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|D) = L(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30000">
                <a:solidFill>
                  <a:srgbClr val="003366"/>
                </a:solidFill>
                <a:latin typeface="Arial"/>
              </a:rPr>
              <a:t>k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|D)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n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30000">
                <a:solidFill>
                  <a:srgbClr val="003366"/>
                </a:solidFill>
                <a:latin typeface="Arial"/>
              </a:rPr>
              <a:t>k+1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s a stationary point which usually means a local maxim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olution not guaranteed globally optim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775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artial data and known structure</a:t>
            </a:r>
            <a:br>
              <a:rPr sz="3600"/>
            </a:b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Expectation Maximisation iteration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6477120" y="3352680"/>
            <a:ext cx="1981080" cy="1554120"/>
            <a:chOff x="6477120" y="3352680"/>
            <a:chExt cx="1981080" cy="1554120"/>
          </a:xfrm>
        </p:grpSpPr>
        <p:grpSp>
          <p:nvGrpSpPr>
            <p:cNvPr id="191" name=""/>
            <p:cNvGrpSpPr/>
            <p:nvPr/>
          </p:nvGrpSpPr>
          <p:grpSpPr>
            <a:xfrm>
              <a:off x="6477120" y="3352680"/>
              <a:ext cx="685800" cy="685800"/>
              <a:chOff x="6477120" y="3352680"/>
              <a:chExt cx="685800" cy="685800"/>
            </a:xfrm>
          </p:grpSpPr>
          <p:sp>
            <p:nvSpPr>
              <p:cNvPr id="192" name=""/>
              <p:cNvSpPr/>
              <p:nvPr/>
            </p:nvSpPr>
            <p:spPr>
              <a:xfrm>
                <a:off x="6477120" y="3352680"/>
                <a:ext cx="685800" cy="685800"/>
              </a:xfrm>
              <a:prstGeom prst="ellipse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617520" y="34905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7116840" y="4221000"/>
              <a:ext cx="685800" cy="685800"/>
              <a:chOff x="7116840" y="4221000"/>
              <a:chExt cx="685800" cy="685800"/>
            </a:xfrm>
          </p:grpSpPr>
          <p:sp>
            <p:nvSpPr>
              <p:cNvPr id="195" name=""/>
              <p:cNvSpPr/>
              <p:nvPr/>
            </p:nvSpPr>
            <p:spPr>
              <a:xfrm>
                <a:off x="7116840" y="4221000"/>
                <a:ext cx="685800" cy="685800"/>
              </a:xfrm>
              <a:prstGeom prst="ellipse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257240" y="43588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7772400" y="3352680"/>
              <a:ext cx="685800" cy="685800"/>
              <a:chOff x="7772400" y="3352680"/>
              <a:chExt cx="685800" cy="685800"/>
            </a:xfrm>
          </p:grpSpPr>
          <p:sp>
            <p:nvSpPr>
              <p:cNvPr id="198" name=""/>
              <p:cNvSpPr/>
              <p:nvPr/>
            </p:nvSpPr>
            <p:spPr>
              <a:xfrm>
                <a:off x="7772400" y="3352680"/>
                <a:ext cx="685800" cy="685800"/>
              </a:xfrm>
              <a:prstGeom prst="ellipse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912440" y="349056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>
              <a:off x="7010640" y="3962160"/>
              <a:ext cx="228600" cy="304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7696440" y="4038480"/>
              <a:ext cx="380880" cy="2286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066680" y="3352680"/>
            <a:ext cx="1981080" cy="1554120"/>
            <a:chOff x="1066680" y="3352680"/>
            <a:chExt cx="1981080" cy="1554120"/>
          </a:xfrm>
        </p:grpSpPr>
        <p:grpSp>
          <p:nvGrpSpPr>
            <p:cNvPr id="203" name=""/>
            <p:cNvGrpSpPr/>
            <p:nvPr/>
          </p:nvGrpSpPr>
          <p:grpSpPr>
            <a:xfrm>
              <a:off x="1066680" y="3352680"/>
              <a:ext cx="685800" cy="685800"/>
              <a:chOff x="1066680" y="3352680"/>
              <a:chExt cx="685800" cy="685800"/>
            </a:xfrm>
          </p:grpSpPr>
          <p:sp>
            <p:nvSpPr>
              <p:cNvPr id="204" name=""/>
              <p:cNvSpPr/>
              <p:nvPr/>
            </p:nvSpPr>
            <p:spPr>
              <a:xfrm>
                <a:off x="1066680" y="3352680"/>
                <a:ext cx="685800" cy="685800"/>
              </a:xfrm>
              <a:prstGeom prst="ellipse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207080" y="34905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1706400" y="4221000"/>
              <a:ext cx="685800" cy="685800"/>
              <a:chOff x="1706400" y="4221000"/>
              <a:chExt cx="685800" cy="685800"/>
            </a:xfrm>
          </p:grpSpPr>
          <p:sp>
            <p:nvSpPr>
              <p:cNvPr id="207" name=""/>
              <p:cNvSpPr/>
              <p:nvPr/>
            </p:nvSpPr>
            <p:spPr>
              <a:xfrm>
                <a:off x="1706400" y="4221000"/>
                <a:ext cx="685800" cy="685800"/>
              </a:xfrm>
              <a:prstGeom prst="ellipse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846800" y="43588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2361960" y="3352680"/>
              <a:ext cx="685800" cy="685800"/>
              <a:chOff x="2361960" y="3352680"/>
              <a:chExt cx="685800" cy="685800"/>
            </a:xfrm>
          </p:grpSpPr>
          <p:sp>
            <p:nvSpPr>
              <p:cNvPr id="210" name=""/>
              <p:cNvSpPr/>
              <p:nvPr/>
            </p:nvSpPr>
            <p:spPr>
              <a:xfrm>
                <a:off x="2361960" y="3352680"/>
                <a:ext cx="685800" cy="685800"/>
              </a:xfrm>
              <a:prstGeom prst="ellipse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502000" y="349056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212" name=""/>
            <p:cNvSpPr/>
            <p:nvPr/>
          </p:nvSpPr>
          <p:spPr>
            <a:xfrm>
              <a:off x="1600200" y="3962160"/>
              <a:ext cx="228600" cy="304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2286000" y="4038480"/>
              <a:ext cx="380880" cy="2286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3809880" y="3124080"/>
            <a:ext cx="1524240" cy="2057400"/>
          </a:xfrm>
          <a:prstGeom prst="rect">
            <a:avLst/>
          </a:prstGeom>
          <a:solidFill>
            <a:srgbClr val="99cc99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Arial"/>
              </a:rPr>
              <a:t>Expected counts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#(A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#(B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#(O,A,B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971800" y="41911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715000" y="41911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5410080"/>
            <a:ext cx="1676160" cy="1067040"/>
          </a:xfrm>
          <a:prstGeom prst="can">
            <a:avLst>
              <a:gd name="adj" fmla="val 25000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raining Dat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70280" y="452448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E-step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638680" y="457200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M-step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981080" y="2590920"/>
            <a:ext cx="5410440" cy="380880"/>
          </a:xfrm>
          <a:custGeom>
            <a:avLst/>
            <a:gdLst/>
            <a:ahLst/>
            <a:rect l="l" t="t" r="r" b="b"/>
            <a:pathLst>
              <a:path w="3408" h="240">
                <a:moveTo>
                  <a:pt x="3408" y="240"/>
                </a:moveTo>
                <a:cubicBezTo>
                  <a:pt x="2804" y="120"/>
                  <a:pt x="2200" y="0"/>
                  <a:pt x="1632" y="0"/>
                </a:cubicBezTo>
                <a:cubicBezTo>
                  <a:pt x="1064" y="0"/>
                  <a:pt x="288" y="208"/>
                  <a:pt x="0" y="24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76320" y="49500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775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artial data and unknown structu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5181480" y="2895480"/>
          <a:ext cx="2209680" cy="3168720"/>
        </p:xfrm>
        <a:graphic>
          <a:graphicData uri="http://schemas.openxmlformats.org/drawingml/2006/table">
            <a:tbl>
              <a:tblPr/>
              <a:tblGrid>
                <a:gridCol w="736560"/>
                <a:gridCol w="736560"/>
                <a:gridCol w="736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=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=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=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24" name=""/>
          <p:cNvGrpSpPr/>
          <p:nvPr/>
        </p:nvGrpSpPr>
        <p:grpSpPr>
          <a:xfrm>
            <a:off x="1943280" y="2895480"/>
            <a:ext cx="1981080" cy="1554120"/>
            <a:chOff x="1943280" y="2895480"/>
            <a:chExt cx="1981080" cy="1554120"/>
          </a:xfrm>
        </p:grpSpPr>
        <p:grpSp>
          <p:nvGrpSpPr>
            <p:cNvPr id="225" name=""/>
            <p:cNvGrpSpPr/>
            <p:nvPr/>
          </p:nvGrpSpPr>
          <p:grpSpPr>
            <a:xfrm>
              <a:off x="1943280" y="2895480"/>
              <a:ext cx="685800" cy="685800"/>
              <a:chOff x="1943280" y="2895480"/>
              <a:chExt cx="685800" cy="685800"/>
            </a:xfrm>
          </p:grpSpPr>
          <p:sp>
            <p:nvSpPr>
              <p:cNvPr id="226" name=""/>
              <p:cNvSpPr/>
              <p:nvPr/>
            </p:nvSpPr>
            <p:spPr>
              <a:xfrm>
                <a:off x="1943280" y="2895480"/>
                <a:ext cx="685800" cy="685800"/>
              </a:xfrm>
              <a:prstGeom prst="ellipse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083680" y="30333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2583000" y="3763800"/>
              <a:ext cx="685800" cy="685800"/>
              <a:chOff x="2583000" y="3763800"/>
              <a:chExt cx="685800" cy="685800"/>
            </a:xfrm>
          </p:grpSpPr>
          <p:sp>
            <p:nvSpPr>
              <p:cNvPr id="229" name=""/>
              <p:cNvSpPr/>
              <p:nvPr/>
            </p:nvSpPr>
            <p:spPr>
              <a:xfrm>
                <a:off x="2583000" y="3763800"/>
                <a:ext cx="685800" cy="685800"/>
              </a:xfrm>
              <a:prstGeom prst="ellipse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723400" y="39016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3238560" y="2895480"/>
              <a:ext cx="685800" cy="685800"/>
              <a:chOff x="3238560" y="2895480"/>
              <a:chExt cx="685800" cy="685800"/>
            </a:xfrm>
          </p:grpSpPr>
          <p:sp>
            <p:nvSpPr>
              <p:cNvPr id="232" name=""/>
              <p:cNvSpPr/>
              <p:nvPr/>
            </p:nvSpPr>
            <p:spPr>
              <a:xfrm>
                <a:off x="3238560" y="2895480"/>
                <a:ext cx="685800" cy="685800"/>
              </a:xfrm>
              <a:prstGeom prst="ellipse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378600" y="303336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4" name=""/>
          <p:cNvSpPr/>
          <p:nvPr/>
        </p:nvSpPr>
        <p:spPr>
          <a:xfrm>
            <a:off x="973080" y="4952880"/>
            <a:ext cx="398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The hardest case: we ne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to establish structure and CPT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using incomplete dat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775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artial data and unknown structu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79400" y="237024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e approach would be to conduct a search through model structure space (as we previously saw) and perform EM for each candidate grap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putationally expensiv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rameter optimisation through EM not trivi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pend a lot of time computing poor graph candida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apidly becomes computationally intracta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775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artial data and unknown structu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79400" y="237024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pproximate solution using Structural E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plex in practic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erforms a search in (structure,parameters) spac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 each iteration use current model to either improve parameters (“parametric” EM step) or to improve model structure (“structural” EM step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urther details are beyond the scope of this cour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 can generalise the fully observable, known structure case for more complex BBN lear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cope with unknown structure, we need to iterate over the possible model structu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cope with partial data, we use the EM algorithm that “fills in” the missing data until the model converges. We cannot guarantee that we obtain the best global solu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58600" y="8028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ext time 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90640" y="2612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Research issue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Active camer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Future challeng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Excellent tutorial at by Koller and Friedman: </a:t>
            </a:r>
            <a:r>
              <a:rPr b="0" lang="en-GB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www.cs.huji.ac.il/~nir/Nips01-Tutorial/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Also by Murphy at: </a:t>
            </a:r>
            <a:r>
              <a:rPr b="0" lang="en-GB" sz="2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www.cs.berkeley.edu/~murphyk/Bayes/bayes.htm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Some of today’s slides were adapted from these sourc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cture 14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040" y="27432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ing Bayesian Belief Networ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verview of learning methods for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ull data and unknown structu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rtial data and known structu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rtial data and unknown structu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o why are BBNs relevant to Cognitive CV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2514600"/>
            <a:ext cx="8029440" cy="40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vides a well-founded methodology for reasoning with uncertaint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se methods are the basis for our model of perception guided by expecta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 can develop well-founded methods of learning rather than just being stuck with hand-coded model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791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Why is learning important in the context of BBN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63640" y="247176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nowledge acquisition can be an expensive proc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erts may not be readily available (scarce knowledge) or simply not exi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ut you might have a lot of data from (say) case stud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ing allows us to construct BBN models from the data and in the process gain insight into the nature of the problem doma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791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axonomy of learning metho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600200" y="2514600"/>
          <a:ext cx="5943600" cy="2066760"/>
        </p:xfrm>
        <a:graphic>
          <a:graphicData uri="http://schemas.openxmlformats.org/drawingml/2006/table">
            <a:tbl>
              <a:tblPr/>
              <a:tblGrid>
                <a:gridCol w="628560"/>
                <a:gridCol w="971640"/>
                <a:gridCol w="2571840"/>
                <a:gridCol w="1771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odel structur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Know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Unknow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86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ull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aximum likelihood estimation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earch through model space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artial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xpectation Maximisation (EM) or gradient descent(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M + search through model space (structural EM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 rot="16200000">
            <a:off x="1127880" y="369756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Observability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6920" y="4729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66"/>
                </a:solidFill>
                <a:latin typeface="Arial"/>
              </a:rPr>
              <a:t>In the last lecture we saw the full observability and known model structure case in detail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66"/>
                </a:solidFill>
                <a:latin typeface="Arial"/>
              </a:rPr>
              <a:t>In this lecture we will take an overview of the other three case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775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ully observable data and unknown structu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181480" y="2895480"/>
          <a:ext cx="2209680" cy="3168720"/>
        </p:xfrm>
        <a:graphic>
          <a:graphicData uri="http://schemas.openxmlformats.org/drawingml/2006/table">
            <a:tbl>
              <a:tblPr/>
              <a:tblGrid>
                <a:gridCol w="736560"/>
                <a:gridCol w="736560"/>
                <a:gridCol w="736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=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=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=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1675440" y="4567320"/>
            <a:ext cx="26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.g. 3 discrete nod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97320" y="5257800"/>
            <a:ext cx="292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We need to establish 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structure and CPT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854360" y="2532240"/>
            <a:ext cx="838080" cy="6858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83320" y="2616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95480" y="2514600"/>
            <a:ext cx="838440" cy="6858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49640" y="2649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89320" y="3591000"/>
            <a:ext cx="838080" cy="6858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4240" y="3689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775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ully observable data and unknown structu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219320" y="3505320"/>
            <a:ext cx="1981080" cy="1554120"/>
            <a:chOff x="1219320" y="3505320"/>
            <a:chExt cx="1981080" cy="1554120"/>
          </a:xfrm>
        </p:grpSpPr>
        <p:grpSp>
          <p:nvGrpSpPr>
            <p:cNvPr id="117" name=""/>
            <p:cNvGrpSpPr/>
            <p:nvPr/>
          </p:nvGrpSpPr>
          <p:grpSpPr>
            <a:xfrm>
              <a:off x="1219320" y="3505320"/>
              <a:ext cx="685800" cy="685800"/>
              <a:chOff x="1219320" y="3505320"/>
              <a:chExt cx="685800" cy="685800"/>
            </a:xfrm>
          </p:grpSpPr>
          <p:sp>
            <p:nvSpPr>
              <p:cNvPr id="118" name=""/>
              <p:cNvSpPr/>
              <p:nvPr/>
            </p:nvSpPr>
            <p:spPr>
              <a:xfrm>
                <a:off x="1219320" y="3505320"/>
                <a:ext cx="685800" cy="685800"/>
              </a:xfrm>
              <a:prstGeom prst="ellipse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359720" y="36432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1859040" y="4373640"/>
              <a:ext cx="685800" cy="685800"/>
              <a:chOff x="1859040" y="4373640"/>
              <a:chExt cx="685800" cy="685800"/>
            </a:xfrm>
          </p:grpSpPr>
          <p:sp>
            <p:nvSpPr>
              <p:cNvPr id="121" name=""/>
              <p:cNvSpPr/>
              <p:nvPr/>
            </p:nvSpPr>
            <p:spPr>
              <a:xfrm>
                <a:off x="1859040" y="4373640"/>
                <a:ext cx="685800" cy="685800"/>
              </a:xfrm>
              <a:prstGeom prst="ellipse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999440" y="45115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2514600" y="3505320"/>
              <a:ext cx="685800" cy="685800"/>
              <a:chOff x="2514600" y="3505320"/>
              <a:chExt cx="685800" cy="685800"/>
            </a:xfrm>
          </p:grpSpPr>
          <p:sp>
            <p:nvSpPr>
              <p:cNvPr id="124" name=""/>
              <p:cNvSpPr/>
              <p:nvPr/>
            </p:nvSpPr>
            <p:spPr>
              <a:xfrm>
                <a:off x="2514600" y="3505320"/>
                <a:ext cx="685800" cy="685800"/>
              </a:xfrm>
              <a:prstGeom prst="ellipse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654640" y="364320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264200" y="3774960"/>
                <a:ext cx="3124080" cy="9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|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3651480" y="2514600"/>
            <a:ext cx="50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ny particular connection configura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gives rise to a graph g. The set of of al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ossible graphs is 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99360" y="4765680"/>
            <a:ext cx="4809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e need to find a particular graph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at fits the data best. We saw in th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revious lecture how we can learn th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PT parameters (in the discrete case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for any particular graph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775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ully observable data and unknown structu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37600" y="4584600"/>
            <a:ext cx="76010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To find the best solution (the one that maximises P(G|D) ) w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need to search through some set of possible model configuration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But the maximum likelihood model would be a complete graph,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ince this would have the maximum number of parameters and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hence fit the data best. But this would likely constitute 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OVERFITTING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341360" y="2712960"/>
            <a:ext cx="1981440" cy="1554120"/>
            <a:chOff x="1341360" y="2712960"/>
            <a:chExt cx="1981440" cy="1554120"/>
          </a:xfrm>
        </p:grpSpPr>
        <p:grpSp>
          <p:nvGrpSpPr>
            <p:cNvPr id="132" name=""/>
            <p:cNvGrpSpPr/>
            <p:nvPr/>
          </p:nvGrpSpPr>
          <p:grpSpPr>
            <a:xfrm>
              <a:off x="1341360" y="2712960"/>
              <a:ext cx="685800" cy="685800"/>
              <a:chOff x="1341360" y="2712960"/>
              <a:chExt cx="685800" cy="685800"/>
            </a:xfrm>
          </p:grpSpPr>
          <p:sp>
            <p:nvSpPr>
              <p:cNvPr id="133" name=""/>
              <p:cNvSpPr/>
              <p:nvPr/>
            </p:nvSpPr>
            <p:spPr>
              <a:xfrm>
                <a:off x="1341360" y="2712960"/>
                <a:ext cx="685800" cy="685800"/>
              </a:xfrm>
              <a:prstGeom prst="ellipse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481760" y="28508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1981080" y="3581280"/>
              <a:ext cx="685800" cy="685800"/>
              <a:chOff x="1981080" y="3581280"/>
              <a:chExt cx="685800" cy="685800"/>
            </a:xfrm>
          </p:grpSpPr>
          <p:sp>
            <p:nvSpPr>
              <p:cNvPr id="136" name=""/>
              <p:cNvSpPr/>
              <p:nvPr/>
            </p:nvSpPr>
            <p:spPr>
              <a:xfrm>
                <a:off x="1981080" y="3581280"/>
                <a:ext cx="685800" cy="685800"/>
              </a:xfrm>
              <a:prstGeom prst="ellipse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121480" y="37191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2637000" y="2712960"/>
              <a:ext cx="685800" cy="685800"/>
              <a:chOff x="2637000" y="2712960"/>
              <a:chExt cx="685800" cy="685800"/>
            </a:xfrm>
          </p:grpSpPr>
          <p:sp>
            <p:nvSpPr>
              <p:cNvPr id="139" name=""/>
              <p:cNvSpPr/>
              <p:nvPr/>
            </p:nvSpPr>
            <p:spPr>
              <a:xfrm>
                <a:off x="2637000" y="2712960"/>
                <a:ext cx="685800" cy="685800"/>
              </a:xfrm>
              <a:prstGeom prst="ellipse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777040" y="285084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2027160" y="3017880"/>
              <a:ext cx="609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2560320" y="3398760"/>
              <a:ext cx="3049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3780000" y="2712960"/>
            <a:ext cx="1981080" cy="1554120"/>
            <a:chOff x="3780000" y="2712960"/>
            <a:chExt cx="1981080" cy="1554120"/>
          </a:xfrm>
        </p:grpSpPr>
        <p:grpSp>
          <p:nvGrpSpPr>
            <p:cNvPr id="144" name=""/>
            <p:cNvGrpSpPr/>
            <p:nvPr/>
          </p:nvGrpSpPr>
          <p:grpSpPr>
            <a:xfrm>
              <a:off x="3780000" y="2712960"/>
              <a:ext cx="685800" cy="685800"/>
              <a:chOff x="3780000" y="2712960"/>
              <a:chExt cx="685800" cy="685800"/>
            </a:xfrm>
          </p:grpSpPr>
          <p:sp>
            <p:nvSpPr>
              <p:cNvPr id="145" name=""/>
              <p:cNvSpPr/>
              <p:nvPr/>
            </p:nvSpPr>
            <p:spPr>
              <a:xfrm>
                <a:off x="3780000" y="2712960"/>
                <a:ext cx="685800" cy="685800"/>
              </a:xfrm>
              <a:prstGeom prst="ellipse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920400" y="28508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4419720" y="3581280"/>
              <a:ext cx="685800" cy="685800"/>
              <a:chOff x="4419720" y="3581280"/>
              <a:chExt cx="685800" cy="685800"/>
            </a:xfrm>
          </p:grpSpPr>
          <p:sp>
            <p:nvSpPr>
              <p:cNvPr id="148" name=""/>
              <p:cNvSpPr/>
              <p:nvPr/>
            </p:nvSpPr>
            <p:spPr>
              <a:xfrm>
                <a:off x="4419720" y="3581280"/>
                <a:ext cx="685800" cy="685800"/>
              </a:xfrm>
              <a:prstGeom prst="ellipse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560120" y="37191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5075280" y="2712960"/>
              <a:ext cx="685800" cy="685800"/>
              <a:chOff x="5075280" y="2712960"/>
              <a:chExt cx="685800" cy="685800"/>
            </a:xfrm>
          </p:grpSpPr>
          <p:sp>
            <p:nvSpPr>
              <p:cNvPr id="151" name=""/>
              <p:cNvSpPr/>
              <p:nvPr/>
            </p:nvSpPr>
            <p:spPr>
              <a:xfrm>
                <a:off x="5075280" y="2712960"/>
                <a:ext cx="685800" cy="685800"/>
              </a:xfrm>
              <a:prstGeom prst="ellipse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215320" y="285084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 flipH="1" flipV="1">
              <a:off x="4345200" y="3279240"/>
              <a:ext cx="30456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4998960" y="3368160"/>
              <a:ext cx="2286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6218280" y="2712960"/>
            <a:ext cx="1981080" cy="1554120"/>
            <a:chOff x="6218280" y="2712960"/>
            <a:chExt cx="1981080" cy="1554120"/>
          </a:xfrm>
        </p:grpSpPr>
        <p:grpSp>
          <p:nvGrpSpPr>
            <p:cNvPr id="156" name=""/>
            <p:cNvGrpSpPr/>
            <p:nvPr/>
          </p:nvGrpSpPr>
          <p:grpSpPr>
            <a:xfrm>
              <a:off x="6218280" y="2712960"/>
              <a:ext cx="685800" cy="685800"/>
              <a:chOff x="6218280" y="2712960"/>
              <a:chExt cx="685800" cy="685800"/>
            </a:xfrm>
          </p:grpSpPr>
          <p:sp>
            <p:nvSpPr>
              <p:cNvPr id="157" name=""/>
              <p:cNvSpPr/>
              <p:nvPr/>
            </p:nvSpPr>
            <p:spPr>
              <a:xfrm>
                <a:off x="6218280" y="2712960"/>
                <a:ext cx="685800" cy="685800"/>
              </a:xfrm>
              <a:prstGeom prst="ellipse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358680" y="28508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6858000" y="3581280"/>
              <a:ext cx="685800" cy="685800"/>
              <a:chOff x="6858000" y="3581280"/>
              <a:chExt cx="685800" cy="685800"/>
            </a:xfrm>
          </p:grpSpPr>
          <p:sp>
            <p:nvSpPr>
              <p:cNvPr id="160" name=""/>
              <p:cNvSpPr/>
              <p:nvPr/>
            </p:nvSpPr>
            <p:spPr>
              <a:xfrm>
                <a:off x="6858000" y="3581280"/>
                <a:ext cx="685800" cy="685800"/>
              </a:xfrm>
              <a:prstGeom prst="ellipse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998400" y="37191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7513560" y="2712960"/>
              <a:ext cx="685800" cy="685800"/>
              <a:chOff x="7513560" y="2712960"/>
              <a:chExt cx="685800" cy="685800"/>
            </a:xfrm>
          </p:grpSpPr>
          <p:sp>
            <p:nvSpPr>
              <p:cNvPr id="163" name=""/>
              <p:cNvSpPr/>
              <p:nvPr/>
            </p:nvSpPr>
            <p:spPr>
              <a:xfrm>
                <a:off x="7513560" y="2712960"/>
                <a:ext cx="685800" cy="685800"/>
              </a:xfrm>
              <a:prstGeom prst="ellipse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653600" y="285084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 flipH="1">
              <a:off x="7361280" y="3398760"/>
              <a:ext cx="38088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775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ully observable data and unknown structu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23698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o get around the problem of overfitting, we introduce a complexity penalty term into the expression for L(G:D) = P(D|G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043000" y="3922560"/>
                <a:ext cx="521028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G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dim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863640" y="4916520"/>
            <a:ext cx="83059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lvl="1" marL="676080" indent="-25992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is the maximum likelihood estimate for the parameters </a:t>
            </a:r>
            <a:r>
              <a:rPr b="0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for a particular graph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is the # of data sample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dim G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is the dimension of the model (in the fully observable case, this is the number of free parameters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7T10:31:27Z</dcterms:created>
  <dc:creator>Sage</dc:creator>
  <dc:description/>
  <dc:language>en-US</dc:language>
  <cp:lastModifiedBy>Sage</cp:lastModifiedBy>
  <dcterms:modified xsi:type="dcterms:W3CDTF">2005-03-24T15:47:35Z</dcterms:modified>
  <cp:revision>91</cp:revision>
  <dc:subject/>
  <dc:title>Markov Models</dc:title>
</cp:coreProperties>
</file>